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75BA9-7F08-452C-9662-6238DA2FF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D9169-FA23-497E-802F-429DB6589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9F023-1EE1-48F9-AD8F-65A9D2497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9407C-CE5D-4E80-BF84-E1051B5B6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7A8AA-79CA-4B7A-BB1C-B453F62FC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9E713-94D7-4E1A-B494-2AF686DFD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A6EFC-6023-4EC6-808B-83D4CC191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C2EC3-E91F-487D-9D99-2CA600550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CC0F7-8BF7-4E9D-959B-C5CC1908C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BA681-93FA-48C7-A725-F0027343E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A53CA-D7E0-4C36-820A-A66BD9450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4B7D2-FDC1-470F-A7A9-99B87A215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DC099-9985-4ACC-831C-067EBDCCA9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1523880"/>
            <a:ext cx="3962520" cy="792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9966"/>
                </a:solidFill>
                <a:latin typeface="Times New Roman"/>
                <a:cs typeface="Simplified Arabic"/>
              </a:rPr>
              <a:t>كلوا هذا جسدي يا شعبي الحبيب يا برايا اشهدي للسر العجيب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572000" y="0"/>
            <a:ext cx="7315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533520" y="380880"/>
            <a:ext cx="7315200" cy="320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99"/>
                </a:solidFill>
                <a:latin typeface="Times New Roman"/>
                <a:cs typeface="Simplified Arabic"/>
              </a:rPr>
              <a:t>في العشاء السري رسمتُ القربان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99"/>
                </a:solidFill>
                <a:latin typeface="Times New Roman"/>
                <a:cs typeface="Times New Roman"/>
              </a:rPr>
              <a:t>في الدم والخمر خلصتُ الإنسان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1523880"/>
            <a:ext cx="3962520" cy="792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9966"/>
                </a:solidFill>
                <a:latin typeface="Times New Roman"/>
                <a:cs typeface="Simplified Arabic"/>
              </a:rPr>
              <a:t>كلوا هذا جسدي يا شعبي الحبيب يا برايا اشهدي للسر العجيب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572000" y="0"/>
            <a:ext cx="7315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257640" y="0"/>
            <a:ext cx="588636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0" y="990720"/>
            <a:ext cx="3048120" cy="710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5400" spc="-1" strike="noStrike">
                <a:solidFill>
                  <a:srgbClr val="ffcc00"/>
                </a:solidFill>
                <a:latin typeface="Times New Roman"/>
                <a:cs typeface="Times New Roman"/>
              </a:rPr>
              <a:t>ثقبوا يديَّ أسقوني الآلام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5400" spc="-1" strike="noStrike">
                <a:solidFill>
                  <a:srgbClr val="ffcc00"/>
                </a:solidFill>
                <a:latin typeface="Times New Roman"/>
                <a:cs typeface="Times New Roman"/>
              </a:rPr>
              <a:t>من وهجِ عيني وزّعتُ السلام</a:t>
            </a:r>
            <a:r>
              <a:rPr b="0" lang="en-US" sz="5400" spc="-1" strike="noStrike">
                <a:solidFill>
                  <a:srgbClr val="ff9966"/>
                </a:solidFill>
                <a:latin typeface="Times New Roman"/>
                <a:ea typeface="Times New Roman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523880"/>
            <a:ext cx="3962520" cy="792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9966"/>
                </a:solidFill>
                <a:latin typeface="Times New Roman"/>
                <a:cs typeface="Simplified Arabic"/>
              </a:rPr>
              <a:t>كلوا هذا جسدي يا شعبي الحبيب يا برايا اشهدي للسر العجيب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572000" y="0"/>
            <a:ext cx="7315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486320" y="0"/>
            <a:ext cx="465768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0" y="380880"/>
            <a:ext cx="4114800" cy="75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دماً سالَ جنبي كالحملِ المذبوح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بعذاب الصلبِ قد اسلمتُ الروح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523880"/>
            <a:ext cx="3962520" cy="792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9966"/>
                </a:solidFill>
                <a:latin typeface="Times New Roman"/>
                <a:cs typeface="Simplified Arabic"/>
              </a:rPr>
              <a:t>كلوا هذا جسدي يا شعبي الحبيب يا برايا اشهدي للسر العجيب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572000" y="0"/>
            <a:ext cx="7315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5T05:52:11Z</dcterms:created>
  <dc:creator>SUZANNE.MD</dc:creator>
  <dc:description/>
  <dc:language>en-US</dc:language>
  <cp:lastModifiedBy>HANI SAFI</cp:lastModifiedBy>
  <dcterms:modified xsi:type="dcterms:W3CDTF">2003-04-16T13:44:52Z</dcterms:modified>
  <cp:revision>2</cp:revision>
  <dc:subject/>
  <dc:title>PowerPoint Presentation</dc:title>
</cp:coreProperties>
</file>